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9AC-A8C3-44A6-BF78-A505ADCD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7E1-51B2-46D0-99A1-57BA07E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224-020F-4F39-AE05-39F3EA28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B48-A82C-40BF-84B1-C443770B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CEB-A08C-4782-8CB5-F0FFA0A5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59C-6B66-4B5B-ABF5-50F66CF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EB5-5DEE-43F4-8541-27C0C1A6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89F-A774-4E78-A43E-A04D541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427-8559-4F5E-8C2A-E930564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4F5-896B-43B7-92ED-11A8DAB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B45-6576-45C0-AEEC-6C23FA7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A0A-A256-4CFC-BC6F-557606E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07B-D274-4E7D-B8A0-0B7415374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97044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正比例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35280" y="4863960"/>
            <a:ext cx="433080" cy="730440"/>
          </a:xfrm>
          <a:custGeom>
            <a:avLst/>
            <a:gdLst>
              <a:gd name="textAreaLeft" fmla="*/ 276840 w 433080"/>
              <a:gd name="textAreaRight" fmla="*/ 433440 w 433080"/>
              <a:gd name="textAreaTop" fmla="*/ 48600 h 730440"/>
              <a:gd name="textAreaBottom" fmla="*/ 681840 h 73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7"/>
                  <a:pt x="10800" y="4594"/>
                </a:cubicBezTo>
                <a:lnTo>
                  <a:pt x="10800" y="7191"/>
                </a:lnTo>
                <a:cubicBezTo>
                  <a:pt x="10800" y="9488"/>
                  <a:pt x="5400" y="11785"/>
                  <a:pt x="0" y="11785"/>
                </a:cubicBezTo>
                <a:cubicBezTo>
                  <a:pt x="5400" y="11785"/>
                  <a:pt x="10800" y="14082"/>
                  <a:pt x="10800" y="16379"/>
                </a:cubicBezTo>
                <a:lnTo>
                  <a:pt x="10800" y="17006"/>
                </a:lnTo>
                <a:cubicBezTo>
                  <a:pt x="10800" y="1930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138320" y="495468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是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正比例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092480" y="463356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可转化为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形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325760" y="243504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≠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=±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882800" y="362448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=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3"/>
          <p:cNvGrpSpPr/>
          <p:nvPr/>
        </p:nvGrpSpPr>
        <p:grpSpPr>
          <a:xfrm>
            <a:off x="1189080" y="1785960"/>
            <a:ext cx="6832440" cy="650520"/>
            <a:chOff x="1189080" y="1785960"/>
            <a:chExt cx="6832440" cy="650520"/>
          </a:xfrm>
        </p:grpSpPr>
        <p:pic>
          <p:nvPicPr>
            <p:cNvPr id="189" name="Object 2" descr=""/>
            <p:cNvPicPr/>
            <p:nvPr/>
          </p:nvPicPr>
          <p:blipFill>
            <a:blip r:embed="rId1"/>
            <a:stretch/>
          </p:blipFill>
          <p:spPr>
            <a:xfrm>
              <a:off x="2763360" y="1785960"/>
              <a:ext cx="31482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15"/>
            <p:cNvSpPr/>
            <p:nvPr/>
          </p:nvSpPr>
          <p:spPr>
            <a:xfrm>
              <a:off x="1189080" y="1793880"/>
              <a:ext cx="683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∵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                                       是正比例函数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6"/>
          <p:cNvSpPr/>
          <p:nvPr/>
        </p:nvSpPr>
        <p:spPr>
          <a:xfrm>
            <a:off x="2197080" y="2730600"/>
            <a:ext cx="216000" cy="67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677880"/>
              <a:gd name="textAreaBottom" fmla="*/ 6573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0"/>
                  <a:pt x="10800" y="2099"/>
                </a:cubicBezTo>
                <a:lnTo>
                  <a:pt x="10800" y="8701"/>
                </a:lnTo>
                <a:cubicBezTo>
                  <a:pt x="10800" y="9751"/>
                  <a:pt x="5400" y="10800"/>
                  <a:pt x="0" y="10800"/>
                </a:cubicBezTo>
                <a:cubicBezTo>
                  <a:pt x="5400" y="10800"/>
                  <a:pt x="10800" y="11850"/>
                  <a:pt x="10800" y="12899"/>
                </a:cubicBezTo>
                <a:lnTo>
                  <a:pt x="10800" y="19501"/>
                </a:lnTo>
                <a:cubicBezTo>
                  <a:pt x="10800" y="205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4754520" y="2803680"/>
            <a:ext cx="216000" cy="67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677880"/>
              <a:gd name="textAreaBottom" fmla="*/ 6573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0"/>
                  <a:pt x="10800" y="2099"/>
                </a:cubicBezTo>
                <a:lnTo>
                  <a:pt x="10800" y="8701"/>
                </a:lnTo>
                <a:cubicBezTo>
                  <a:pt x="10800" y="9751"/>
                  <a:pt x="5400" y="10800"/>
                  <a:pt x="0" y="10800"/>
                </a:cubicBezTo>
                <a:cubicBezTo>
                  <a:pt x="5400" y="10800"/>
                  <a:pt x="10800" y="11850"/>
                  <a:pt x="10800" y="12899"/>
                </a:cubicBezTo>
                <a:lnTo>
                  <a:pt x="10800" y="19501"/>
                </a:lnTo>
                <a:cubicBezTo>
                  <a:pt x="10800" y="205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757520" y="2354760"/>
            <a:ext cx="19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-1≠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4"/>
          <p:cNvGrpSpPr/>
          <p:nvPr/>
        </p:nvGrpSpPr>
        <p:grpSpPr>
          <a:xfrm>
            <a:off x="611280" y="653760"/>
            <a:ext cx="6970680" cy="941400"/>
            <a:chOff x="611280" y="653760"/>
            <a:chExt cx="6970680" cy="941400"/>
          </a:xfrm>
        </p:grpSpPr>
        <p:sp>
          <p:nvSpPr>
            <p:cNvPr id="195" name="Rectangle 7"/>
            <p:cNvSpPr/>
            <p:nvPr/>
          </p:nvSpPr>
          <p:spPr>
            <a:xfrm>
              <a:off x="611280" y="770040"/>
              <a:ext cx="697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函数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)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正比例函数，求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Object 2" descr=""/>
            <p:cNvPicPr/>
            <p:nvPr/>
          </p:nvPicPr>
          <p:blipFill>
            <a:blip r:embed="rId2"/>
            <a:stretch/>
          </p:blipFill>
          <p:spPr>
            <a:xfrm>
              <a:off x="4449600" y="653760"/>
              <a:ext cx="502920" cy="58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31"/>
          <p:cNvSpPr/>
          <p:nvPr/>
        </p:nvSpPr>
        <p:spPr>
          <a:xfrm>
            <a:off x="573120" y="642960"/>
            <a:ext cx="1028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05040" y="1644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585120" y="16444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903240" y="2744640"/>
            <a:ext cx="7669440" cy="459720"/>
            <a:chOff x="903240" y="2744640"/>
            <a:chExt cx="7669440" cy="459720"/>
          </a:xfrm>
        </p:grpSpPr>
        <p:sp>
          <p:nvSpPr>
            <p:cNvPr id="201" name="Text Box 11"/>
            <p:cNvSpPr/>
            <p:nvPr/>
          </p:nvSpPr>
          <p:spPr>
            <a:xfrm>
              <a:off x="903240" y="2744640"/>
              <a:ext cx="76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若                    是正比例函数，则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=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ject 12" descr=""/>
            <p:cNvPicPr/>
            <p:nvPr/>
          </p:nvPicPr>
          <p:blipFill>
            <a:blip r:embed="rId1"/>
            <a:stretch/>
          </p:blipFill>
          <p:spPr>
            <a:xfrm>
              <a:off x="2124000" y="2760480"/>
              <a:ext cx="1422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13"/>
          <p:cNvSpPr/>
          <p:nvPr/>
        </p:nvSpPr>
        <p:spPr>
          <a:xfrm>
            <a:off x="6789600" y="27399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892080" y="3471840"/>
            <a:ext cx="784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m-2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lml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561000" y="340056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207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比例函数简单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757080" y="1123920"/>
            <a:ext cx="76312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的成熟麦田，用一台收割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每小时的小麦收割机来收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收割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公顷）与收割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收割完这块麦田需用的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442880" y="4416480"/>
            <a:ext cx="55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0.5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0.5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=0.5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收割完这块麦田需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233360" y="2603520"/>
            <a:ext cx="50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）设正比例函数解析式是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y=kx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730520" y="3098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把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=-4, y =2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上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438880" y="3087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= -4k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179280" y="4479840"/>
            <a:ext cx="6981480" cy="977400"/>
            <a:chOff x="179280" y="4479840"/>
            <a:chExt cx="6981480" cy="977400"/>
          </a:xfrm>
        </p:grpSpPr>
        <p:sp>
          <p:nvSpPr>
            <p:cNvPr id="218" name="Text Box 6"/>
            <p:cNvSpPr/>
            <p:nvPr/>
          </p:nvSpPr>
          <p:spPr>
            <a:xfrm>
              <a:off x="179280" y="4638600"/>
              <a:ext cx="69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∴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所求的正比例函数解析式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= -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6259680" y="4814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6259680" y="447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6298200" y="5033880"/>
              <a:ext cx="235080" cy="0"/>
            </a:xfrm>
            <a:prstGeom prst="line">
              <a:avLst/>
            </a:prstGeom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"/>
          <p:cNvGrpSpPr/>
          <p:nvPr/>
        </p:nvGrpSpPr>
        <p:grpSpPr>
          <a:xfrm>
            <a:off x="1720800" y="3720960"/>
            <a:ext cx="3048120" cy="985320"/>
            <a:chOff x="1720800" y="3720960"/>
            <a:chExt cx="3048120" cy="985320"/>
          </a:xfrm>
        </p:grpSpPr>
        <p:sp>
          <p:nvSpPr>
            <p:cNvPr id="223" name="Text Box 11"/>
            <p:cNvSpPr/>
            <p:nvPr/>
          </p:nvSpPr>
          <p:spPr>
            <a:xfrm>
              <a:off x="1720800" y="385416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= -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3152160" y="4063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3141000" y="3720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3183120" y="4249440"/>
              <a:ext cx="228600" cy="0"/>
            </a:xfrm>
            <a:prstGeom prst="line">
              <a:avLst/>
            </a:prstGeom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16"/>
          <p:cNvSpPr/>
          <p:nvPr/>
        </p:nvSpPr>
        <p:spPr>
          <a:xfrm>
            <a:off x="1538280" y="54230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当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=6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,  y =-6/2=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803160" y="8701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正比例函数当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正比例函数的解析式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8"/>
          <p:cNvGrpSpPr/>
          <p:nvPr/>
        </p:nvGrpSpPr>
        <p:grpSpPr>
          <a:xfrm>
            <a:off x="7041960" y="2527200"/>
            <a:ext cx="1371960" cy="642600"/>
            <a:chOff x="7041960" y="2527200"/>
            <a:chExt cx="1371960" cy="642600"/>
          </a:xfrm>
        </p:grpSpPr>
        <p:sp>
          <p:nvSpPr>
            <p:cNvPr id="230" name="Line 19"/>
            <p:cNvSpPr/>
            <p:nvPr/>
          </p:nvSpPr>
          <p:spPr>
            <a:xfrm flipH="1">
              <a:off x="7041960" y="292392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7651800" y="2527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7041960" y="3054240"/>
            <a:ext cx="1371960" cy="642600"/>
            <a:chOff x="7041960" y="3054240"/>
            <a:chExt cx="1371960" cy="642600"/>
          </a:xfrm>
        </p:grpSpPr>
        <p:sp>
          <p:nvSpPr>
            <p:cNvPr id="233" name="Line 22"/>
            <p:cNvSpPr/>
            <p:nvPr/>
          </p:nvSpPr>
          <p:spPr>
            <a:xfrm flipH="1">
              <a:off x="7041960" y="345096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7651800" y="30542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7041960" y="3668760"/>
            <a:ext cx="1371960" cy="642600"/>
            <a:chOff x="7041960" y="3668760"/>
            <a:chExt cx="1371960" cy="642600"/>
          </a:xfrm>
        </p:grpSpPr>
        <p:sp>
          <p:nvSpPr>
            <p:cNvPr id="236" name="Line 25"/>
            <p:cNvSpPr/>
            <p:nvPr/>
          </p:nvSpPr>
          <p:spPr>
            <a:xfrm flipH="1">
              <a:off x="7041960" y="406548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6"/>
            <p:cNvSpPr/>
            <p:nvPr/>
          </p:nvSpPr>
          <p:spPr>
            <a:xfrm>
              <a:off x="7651800" y="36687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7"/>
          <p:cNvGrpSpPr/>
          <p:nvPr/>
        </p:nvGrpSpPr>
        <p:grpSpPr>
          <a:xfrm>
            <a:off x="7041960" y="4294080"/>
            <a:ext cx="1371960" cy="642600"/>
            <a:chOff x="7041960" y="4294080"/>
            <a:chExt cx="1371960" cy="642600"/>
          </a:xfrm>
        </p:grpSpPr>
        <p:sp>
          <p:nvSpPr>
            <p:cNvPr id="239" name="Line 28"/>
            <p:cNvSpPr/>
            <p:nvPr/>
          </p:nvSpPr>
          <p:spPr>
            <a:xfrm flipH="1">
              <a:off x="7041960" y="469116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9"/>
            <p:cNvSpPr/>
            <p:nvPr/>
          </p:nvSpPr>
          <p:spPr>
            <a:xfrm>
              <a:off x="7651800" y="42940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0"/>
          <p:cNvGrpSpPr/>
          <p:nvPr/>
        </p:nvGrpSpPr>
        <p:grpSpPr>
          <a:xfrm>
            <a:off x="6486480" y="5477040"/>
            <a:ext cx="2297160" cy="732960"/>
            <a:chOff x="6486480" y="5477040"/>
            <a:chExt cx="2297160" cy="732960"/>
          </a:xfrm>
        </p:grpSpPr>
        <p:sp>
          <p:nvSpPr>
            <p:cNvPr id="242" name="AutoShape 31"/>
            <p:cNvSpPr/>
            <p:nvPr/>
          </p:nvSpPr>
          <p:spPr>
            <a:xfrm>
              <a:off x="6486480" y="5495400"/>
              <a:ext cx="2297160" cy="714600"/>
            </a:xfrm>
            <a:prstGeom prst="wedgeEllipseCallout">
              <a:avLst>
                <a:gd name="adj1" fmla="val -60078"/>
                <a:gd name="adj2" fmla="val -69009"/>
              </a:avLst>
            </a:prstGeom>
            <a:solidFill>
              <a:srgbClr val="bade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2"/>
            <p:cNvSpPr/>
            <p:nvPr/>
          </p:nvSpPr>
          <p:spPr>
            <a:xfrm>
              <a:off x="6792120" y="547704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待定系数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圆角矩形 31"/>
          <p:cNvSpPr/>
          <p:nvPr/>
        </p:nvSpPr>
        <p:spPr>
          <a:xfrm>
            <a:off x="573120" y="571680"/>
            <a:ext cx="10285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58680" y="287280"/>
            <a:ext cx="76345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某种小汽车的耗油量是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所使用的汽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汽车行驶途中所耗油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行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该汽车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需油费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ject 38" descr=""/>
          <p:cNvPicPr/>
          <p:nvPr/>
        </p:nvPicPr>
        <p:blipFill>
          <a:blip r:embed="rId1"/>
          <a:stretch/>
        </p:blipFill>
        <p:spPr>
          <a:xfrm>
            <a:off x="2760840" y="4000680"/>
            <a:ext cx="934920" cy="763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2"/>
          <p:cNvSpPr/>
          <p:nvPr/>
        </p:nvSpPr>
        <p:spPr>
          <a:xfrm>
            <a:off x="2324160" y="41385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ject 69" descr=""/>
          <p:cNvPicPr/>
          <p:nvPr/>
        </p:nvPicPr>
        <p:blipFill>
          <a:blip r:embed="rId2"/>
          <a:stretch/>
        </p:blipFill>
        <p:spPr>
          <a:xfrm>
            <a:off x="3851280" y="4141800"/>
            <a:ext cx="936720" cy="5065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4"/>
          <p:cNvSpPr/>
          <p:nvPr/>
        </p:nvSpPr>
        <p:spPr>
          <a:xfrm>
            <a:off x="971640" y="342108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1481040" y="342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×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40" descr=""/>
          <p:cNvPicPr/>
          <p:nvPr/>
        </p:nvPicPr>
        <p:blipFill>
          <a:blip r:embed="rId3"/>
          <a:stretch/>
        </p:blipFill>
        <p:spPr>
          <a:xfrm>
            <a:off x="2403360" y="5186520"/>
            <a:ext cx="2086200" cy="752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1"/>
          <p:cNvSpPr/>
          <p:nvPr/>
        </p:nvSpPr>
        <p:spPr>
          <a:xfrm>
            <a:off x="1541520" y="47642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2"/>
          <p:cNvSpPr/>
          <p:nvPr/>
        </p:nvSpPr>
        <p:spPr>
          <a:xfrm>
            <a:off x="3467160" y="4773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3"/>
          <p:cNvSpPr/>
          <p:nvPr/>
        </p:nvSpPr>
        <p:spPr>
          <a:xfrm>
            <a:off x="1541520" y="59468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该汽车行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需油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3"/>
          <p:cNvSpPr/>
          <p:nvPr/>
        </p:nvSpPr>
        <p:spPr>
          <a:xfrm>
            <a:off x="4308480" y="531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元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2"/>
          <p:cNvSpPr/>
          <p:nvPr/>
        </p:nvSpPr>
        <p:spPr>
          <a:xfrm>
            <a:off x="762120" y="45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个正比例函数的比例系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它的解析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263600" y="928800"/>
            <a:ext cx="9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792000" y="2489040"/>
            <a:ext cx="63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，并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050840" y="325584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19200" y="172404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k+1)x+k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=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370560" y="16398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82720" y="389556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依题意，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间的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-3=k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866880" y="445284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-3=4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993600" y="501012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-3=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33520" y="4748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某种小汽车的耗油量是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．所使用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汽油今日涨价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汽车行驶途中所耗油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行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平面直角坐标系内描出大致的函数关系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娄底到长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需油费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5475240" y="3344760"/>
            <a:ext cx="3887640" cy="2725560"/>
            <a:chOff x="5475240" y="3344760"/>
            <a:chExt cx="3887640" cy="2725560"/>
          </a:xfrm>
        </p:grpSpPr>
        <p:sp>
          <p:nvSpPr>
            <p:cNvPr id="268" name="Line 5"/>
            <p:cNvSpPr/>
            <p:nvPr/>
          </p:nvSpPr>
          <p:spPr>
            <a:xfrm>
              <a:off x="5475240" y="5750280"/>
              <a:ext cx="304740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 flipH="1" flipV="1">
              <a:off x="5976000" y="3461400"/>
              <a:ext cx="9720" cy="249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6222240" y="5780880"/>
              <a:ext cx="2152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5833800" y="3863520"/>
              <a:ext cx="2210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628128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655344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682596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>
              <a:off x="709812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737028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764280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791496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818820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 flipH="1">
              <a:off x="5997960" y="403128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8"/>
            <p:cNvSpPr/>
            <p:nvPr/>
          </p:nvSpPr>
          <p:spPr>
            <a:xfrm flipH="1">
              <a:off x="5997960" y="431280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 flipH="1">
              <a:off x="5997960" y="459468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 flipH="1">
              <a:off x="5997960" y="487656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1"/>
            <p:cNvSpPr/>
            <p:nvPr/>
          </p:nvSpPr>
          <p:spPr>
            <a:xfrm flipH="1">
              <a:off x="5997960" y="515844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 flipH="1">
              <a:off x="5997960" y="544104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8566920" y="5602680"/>
              <a:ext cx="795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89760" y="3344760"/>
              <a:ext cx="795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 rot="5400000">
              <a:off x="5857920" y="5778000"/>
              <a:ext cx="274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6"/>
          <p:cNvSpPr/>
          <p:nvPr/>
        </p:nvSpPr>
        <p:spPr>
          <a:xfrm>
            <a:off x="5978520" y="32018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6121440" y="57229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2  3   4   5   6   7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4033800" y="377820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5689440" y="3778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89440" y="4065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5689440" y="43545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5689440" y="46418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5689440" y="4930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5689440" y="5218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5643720" y="5688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1298520" y="378612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Object 2" descr=""/>
          <p:cNvPicPr/>
          <p:nvPr/>
        </p:nvPicPr>
        <p:blipFill>
          <a:blip r:embed="rId1"/>
          <a:stretch/>
        </p:blipFill>
        <p:spPr>
          <a:xfrm>
            <a:off x="2341440" y="3436920"/>
            <a:ext cx="935280" cy="7621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1"/>
          <p:cNvSpPr/>
          <p:nvPr/>
        </p:nvSpPr>
        <p:spPr>
          <a:xfrm>
            <a:off x="685800" y="2900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1927080" y="358920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3"/>
          <p:cNvSpPr/>
          <p:nvPr/>
        </p:nvSpPr>
        <p:spPr>
          <a:xfrm>
            <a:off x="1225440" y="39988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4"/>
          <p:cNvSpPr/>
          <p:nvPr/>
        </p:nvSpPr>
        <p:spPr>
          <a:xfrm>
            <a:off x="1082520" y="422280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90920" y="4267080"/>
          <a:ext cx="1608120" cy="949320"/>
        </p:xfrm>
        <a:graphic>
          <a:graphicData uri="http://schemas.openxmlformats.org/drawingml/2006/table">
            <a:tbl>
              <a:tblPr/>
              <a:tblGrid>
                <a:gridCol w="536400"/>
                <a:gridCol w="535320"/>
                <a:gridCol w="5364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59"/>
          <p:cNvSpPr/>
          <p:nvPr/>
        </p:nvSpPr>
        <p:spPr>
          <a:xfrm>
            <a:off x="1828800" y="419112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5" descr=""/>
          <p:cNvPicPr/>
          <p:nvPr/>
        </p:nvPicPr>
        <p:blipFill>
          <a:blip r:embed="rId2"/>
          <a:stretch/>
        </p:blipFill>
        <p:spPr>
          <a:xfrm>
            <a:off x="3809880" y="4729320"/>
            <a:ext cx="281160" cy="50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3"/>
          <p:cNvSpPr/>
          <p:nvPr/>
        </p:nvSpPr>
        <p:spPr>
          <a:xfrm>
            <a:off x="6858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娄底到长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公里所需油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4"/>
          <p:cNvSpPr/>
          <p:nvPr/>
        </p:nvSpPr>
        <p:spPr>
          <a:xfrm>
            <a:off x="5943600" y="5692680"/>
            <a:ext cx="69840" cy="1159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5"/>
          <p:cNvSpPr/>
          <p:nvPr/>
        </p:nvSpPr>
        <p:spPr>
          <a:xfrm flipV="1">
            <a:off x="6288120" y="5505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6"/>
          <p:cNvSpPr/>
          <p:nvPr/>
        </p:nvSpPr>
        <p:spPr>
          <a:xfrm>
            <a:off x="5985000" y="544212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7"/>
          <p:cNvSpPr/>
          <p:nvPr/>
        </p:nvSpPr>
        <p:spPr>
          <a:xfrm flipH="1">
            <a:off x="6242760" y="5416560"/>
            <a:ext cx="71640" cy="7128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8"/>
          <p:cNvSpPr/>
          <p:nvPr/>
        </p:nvSpPr>
        <p:spPr>
          <a:xfrm flipV="1">
            <a:off x="5994360" y="3530520"/>
            <a:ext cx="2249640" cy="221616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6" descr=""/>
          <p:cNvPicPr/>
          <p:nvPr/>
        </p:nvPicPr>
        <p:blipFill>
          <a:blip r:embed="rId3"/>
          <a:stretch/>
        </p:blipFill>
        <p:spPr>
          <a:xfrm>
            <a:off x="3429000" y="3613320"/>
            <a:ext cx="936720" cy="5061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0"/>
          <p:cNvSpPr/>
          <p:nvPr/>
        </p:nvSpPr>
        <p:spPr>
          <a:xfrm>
            <a:off x="1828800" y="449568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描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1"/>
          <p:cNvSpPr/>
          <p:nvPr/>
        </p:nvSpPr>
        <p:spPr>
          <a:xfrm>
            <a:off x="1828800" y="48006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61"/>
          <p:cNvGrpSpPr/>
          <p:nvPr/>
        </p:nvGrpSpPr>
        <p:grpSpPr>
          <a:xfrm>
            <a:off x="1752480" y="5262480"/>
            <a:ext cx="3167280" cy="752400"/>
            <a:chOff x="1752480" y="5262480"/>
            <a:chExt cx="3167280" cy="752400"/>
          </a:xfrm>
        </p:grpSpPr>
        <p:pic>
          <p:nvPicPr>
            <p:cNvPr id="318" name="Object 4" descr=""/>
            <p:cNvPicPr/>
            <p:nvPr/>
          </p:nvPicPr>
          <p:blipFill>
            <a:blip r:embed="rId4"/>
            <a:stretch/>
          </p:blipFill>
          <p:spPr>
            <a:xfrm>
              <a:off x="1752480" y="5262480"/>
              <a:ext cx="20862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73"/>
            <p:cNvSpPr/>
            <p:nvPr/>
          </p:nvSpPr>
          <p:spPr>
            <a:xfrm>
              <a:off x="3624480" y="5406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元）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63"/>
          <p:cNvSpPr/>
          <p:nvPr/>
        </p:nvSpPr>
        <p:spPr>
          <a:xfrm>
            <a:off x="1066680" y="541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2" descr=""/>
          <p:cNvPicPr/>
          <p:nvPr/>
        </p:nvPicPr>
        <p:blipFill>
          <a:blip r:embed="rId5"/>
          <a:stretch/>
        </p:blipFill>
        <p:spPr>
          <a:xfrm>
            <a:off x="2057400" y="2679840"/>
            <a:ext cx="1574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"/>
                            </p:stCondLst>
                            <p:childTnLst>
                              <p:par>
                                <p:cTn id="535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1"/>
                            </p:stCondLst>
                            <p:childTnLst>
                              <p:par>
                                <p:cTn id="542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351080" y="288612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比例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2"/>
          <p:cNvGrpSpPr/>
          <p:nvPr/>
        </p:nvGrpSpPr>
        <p:grpSpPr>
          <a:xfrm>
            <a:off x="3062160" y="1503360"/>
            <a:ext cx="3606840" cy="3371760"/>
            <a:chOff x="3062160" y="1503360"/>
            <a:chExt cx="3606840" cy="3371760"/>
          </a:xfrm>
        </p:grpSpPr>
        <p:grpSp>
          <p:nvGrpSpPr>
            <p:cNvPr id="325" name="组合 16"/>
            <p:cNvGrpSpPr/>
            <p:nvPr/>
          </p:nvGrpSpPr>
          <p:grpSpPr>
            <a:xfrm>
              <a:off x="3062160" y="1503360"/>
              <a:ext cx="2957400" cy="3371760"/>
              <a:chOff x="3062160" y="1503360"/>
              <a:chExt cx="2957400" cy="3371760"/>
            </a:xfrm>
          </p:grpSpPr>
          <p:sp>
            <p:nvSpPr>
              <p:cNvPr id="326" name="Text Box 4"/>
              <p:cNvSpPr/>
              <p:nvPr/>
            </p:nvSpPr>
            <p:spPr>
              <a:xfrm>
                <a:off x="3347640" y="1849320"/>
                <a:ext cx="26719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正比例函数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7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2160" y="150336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8" name="Text Box 4"/>
            <p:cNvSpPr/>
            <p:nvPr/>
          </p:nvSpPr>
          <p:spPr>
            <a:xfrm>
              <a:off x="3367800" y="3968640"/>
              <a:ext cx="33012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正比例函数的简单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正比例函数的概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运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比例函数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836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289"/>
          <p:cNvSpPr/>
          <p:nvPr/>
        </p:nvSpPr>
        <p:spPr>
          <a:xfrm>
            <a:off x="971640" y="1268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古代，许多民族与地区使用水钟来计时，如图所示．当时的人们通过容器泄水的流量来判断时间的多少．那么你知道为什么可以用水流量来判断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290" descr="75718557"/>
          <p:cNvPicPr/>
          <p:nvPr/>
        </p:nvPicPr>
        <p:blipFill>
          <a:blip r:embed="rId1"/>
          <a:stretch/>
        </p:blipFill>
        <p:spPr>
          <a:xfrm>
            <a:off x="4932360" y="3144960"/>
            <a:ext cx="3743280" cy="33084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2291"/>
          <p:cNvSpPr/>
          <p:nvPr/>
        </p:nvSpPr>
        <p:spPr>
          <a:xfrm>
            <a:off x="1081080" y="3522600"/>
            <a:ext cx="34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设漏水量是均匀的，受水壶中的浮子就会均匀升高，也就是说，浮子升高高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=k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常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6147"/>
          <p:cNvGrpSpPr/>
          <p:nvPr/>
        </p:nvGrpSpPr>
        <p:grpSpPr>
          <a:xfrm>
            <a:off x="325440" y="246240"/>
            <a:ext cx="3013920" cy="808200"/>
            <a:chOff x="325440" y="246240"/>
            <a:chExt cx="3013920" cy="808200"/>
          </a:xfrm>
        </p:grpSpPr>
        <p:sp>
          <p:nvSpPr>
            <p:cNvPr id="84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1"/>
            <p:cNvSpPr/>
            <p:nvPr/>
          </p:nvSpPr>
          <p:spPr>
            <a:xfrm>
              <a:off x="145188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比例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74720" y="1725480"/>
            <a:ext cx="73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问题中的变量对应规律可用怎样的函数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293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圆的周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半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小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3952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铁的密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8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铁块的质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它的体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大小变化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90920" y="3470400"/>
            <a:ext cx="53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L=2π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66880" y="530712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m=7.8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4514760" y="3679920"/>
            <a:ext cx="11448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066680" y="392760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冷冻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，使它每分下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物体的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冷冻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分）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90720" y="649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问题中的变量对应规律可用怎样的函数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66680" y="1727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每个练习本的厚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一些练习本撂在一起的总厚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这些练习本的本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35268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h=0.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35268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T=-2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20640" y="58104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认真观察以上出现的四个函数解析式，分别说出哪些是函数、常数和自变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1922400"/>
          <a:ext cx="5256000" cy="3781440"/>
        </p:xfrm>
        <a:graphic>
          <a:graphicData uri="http://schemas.openxmlformats.org/drawingml/2006/table">
            <a:tbl>
              <a:tblPr/>
              <a:tblGrid>
                <a:gridCol w="2015640"/>
                <a:gridCol w="1008360"/>
                <a:gridCol w="936360"/>
                <a:gridCol w="129564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函数解析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函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自变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黑体"/>
                        </a:rPr>
                        <a:t>l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π</a:t>
                      </a: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m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7.8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h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 0.5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 -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AutoShape 35"/>
          <p:cNvSpPr/>
          <p:nvPr/>
        </p:nvSpPr>
        <p:spPr>
          <a:xfrm>
            <a:off x="6084720" y="2111400"/>
            <a:ext cx="2521080" cy="966600"/>
          </a:xfrm>
          <a:prstGeom prst="wedgeRoundRectCallout">
            <a:avLst>
              <a:gd name="adj1" fmla="val -68388"/>
              <a:gd name="adj2" fmla="val 88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函数解析式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5940360" y="278460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函数解析式都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3419640" y="2787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4643280" y="27874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9"/>
          <p:cNvSpPr/>
          <p:nvPr/>
        </p:nvSpPr>
        <p:spPr>
          <a:xfrm>
            <a:off x="2700360" y="271476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0"/>
          <p:cNvSpPr/>
          <p:nvPr/>
        </p:nvSpPr>
        <p:spPr>
          <a:xfrm>
            <a:off x="3458520" y="3579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1"/>
          <p:cNvSpPr/>
          <p:nvPr/>
        </p:nvSpPr>
        <p:spPr>
          <a:xfrm>
            <a:off x="4610880" y="3579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2514240" y="3579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2628360" y="43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2540160" y="50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5"/>
          <p:cNvSpPr/>
          <p:nvPr/>
        </p:nvSpPr>
        <p:spPr>
          <a:xfrm>
            <a:off x="4677840" y="5091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458520" y="4299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3589920" y="50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4644360" y="4299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12000" y="401148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常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1325"/>
          <p:cNvGrpSpPr/>
          <p:nvPr/>
        </p:nvGrpSpPr>
        <p:grpSpPr>
          <a:xfrm>
            <a:off x="6292800" y="4429080"/>
            <a:ext cx="2378160" cy="1034280"/>
            <a:chOff x="6292800" y="4429080"/>
            <a:chExt cx="2378160" cy="1034280"/>
          </a:xfrm>
        </p:grpSpPr>
        <p:sp>
          <p:nvSpPr>
            <p:cNvPr id="119" name="Text Box 51"/>
            <p:cNvSpPr/>
            <p:nvPr/>
          </p:nvSpPr>
          <p:spPr>
            <a:xfrm>
              <a:off x="6292800" y="49320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2"/>
            <p:cNvSpPr/>
            <p:nvPr/>
          </p:nvSpPr>
          <p:spPr>
            <a:xfrm>
              <a:off x="7088400" y="4965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8167680" y="4965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4"/>
            <p:cNvSpPr/>
            <p:nvPr/>
          </p:nvSpPr>
          <p:spPr>
            <a:xfrm>
              <a:off x="6437520" y="4449600"/>
              <a:ext cx="0" cy="57636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5"/>
            <p:cNvSpPr/>
            <p:nvPr/>
          </p:nvSpPr>
          <p:spPr>
            <a:xfrm>
              <a:off x="7232760" y="4449600"/>
              <a:ext cx="0" cy="57636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6"/>
            <p:cNvSpPr/>
            <p:nvPr/>
          </p:nvSpPr>
          <p:spPr>
            <a:xfrm>
              <a:off x="8313840" y="4429080"/>
              <a:ext cx="0" cy="64584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7"/>
            <p:cNvSpPr/>
            <p:nvPr/>
          </p:nvSpPr>
          <p:spPr>
            <a:xfrm>
              <a:off x="6438960" y="5003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对象 11324" descr=""/>
            <p:cNvPicPr/>
            <p:nvPr/>
          </p:nvPicPr>
          <p:blipFill>
            <a:blip r:embed="rId1"/>
            <a:stretch/>
          </p:blipFill>
          <p:spPr>
            <a:xfrm>
              <a:off x="7621560" y="5047920"/>
              <a:ext cx="29844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1125360"/>
            <a:ext cx="80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形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函数，叫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正比例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比例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24000" y="3070080"/>
            <a:ext cx="90010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flipH="1">
            <a:off x="7806600" y="4341960"/>
            <a:ext cx="1336680" cy="887400"/>
          </a:xfrm>
          <a:prstGeom prst="cloudCallout">
            <a:avLst>
              <a:gd name="adj1" fmla="val 124583"/>
              <a:gd name="adj2" fmla="val 52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40360" y="5229360"/>
            <a:ext cx="43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什么强调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是常数，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≠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070080"/>
            <a:ext cx="90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443640" y="566244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851280" y="3177720"/>
            <a:ext cx="435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y  =  k  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(k≠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的常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4780080" y="2457000"/>
            <a:ext cx="912240" cy="725760"/>
            <a:chOff x="4780080" y="2457000"/>
            <a:chExt cx="912240" cy="725760"/>
          </a:xfrm>
        </p:grpSpPr>
        <p:sp>
          <p:nvSpPr>
            <p:cNvPr id="139" name="Rectangle 10"/>
            <p:cNvSpPr/>
            <p:nvPr/>
          </p:nvSpPr>
          <p:spPr>
            <a:xfrm>
              <a:off x="4780080" y="2457000"/>
              <a:ext cx="912240" cy="459720"/>
            </a:xfrm>
            <a:prstGeom prst="rect">
              <a:avLst/>
            </a:prstGeom>
            <a:solidFill>
              <a:srgbClr val="3399ff"/>
            </a:solidFill>
            <a:ln cap="sq"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比例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197680" y="2954160"/>
              <a:ext cx="0" cy="22860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324000" y="1963800"/>
            <a:ext cx="8554680" cy="2642040"/>
            <a:chOff x="324000" y="1963800"/>
            <a:chExt cx="8554680" cy="2642040"/>
          </a:xfrm>
        </p:grpSpPr>
        <p:grpSp>
          <p:nvGrpSpPr>
            <p:cNvPr id="142" name="Group 13"/>
            <p:cNvGrpSpPr/>
            <p:nvPr/>
          </p:nvGrpSpPr>
          <p:grpSpPr>
            <a:xfrm>
              <a:off x="5270400" y="3652920"/>
              <a:ext cx="729360" cy="952920"/>
              <a:chOff x="5270400" y="3652920"/>
              <a:chExt cx="729360" cy="952920"/>
            </a:xfrm>
          </p:grpSpPr>
          <p:sp>
            <p:nvSpPr>
              <p:cNvPr id="143" name="Rectangle 14"/>
              <p:cNvSpPr/>
              <p:nvPr/>
            </p:nvSpPr>
            <p:spPr>
              <a:xfrm>
                <a:off x="5270400" y="4146120"/>
                <a:ext cx="729360" cy="459720"/>
              </a:xfrm>
              <a:prstGeom prst="rect">
                <a:avLst/>
              </a:prstGeom>
              <a:solidFill>
                <a:srgbClr val="3399ff"/>
              </a:solidFill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变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5"/>
              <p:cNvSpPr/>
              <p:nvPr/>
            </p:nvSpPr>
            <p:spPr>
              <a:xfrm flipV="1">
                <a:off x="5613480" y="3652920"/>
                <a:ext cx="0" cy="457200"/>
              </a:xfrm>
              <a:prstGeom prst="line">
                <a:avLst/>
              </a:prstGeom>
              <a:ln cap="sq"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6"/>
            <p:cNvGrpSpPr/>
            <p:nvPr/>
          </p:nvGrpSpPr>
          <p:grpSpPr>
            <a:xfrm>
              <a:off x="324000" y="3193560"/>
              <a:ext cx="3530160" cy="459720"/>
              <a:chOff x="324000" y="3193560"/>
              <a:chExt cx="3530160" cy="459720"/>
            </a:xfrm>
          </p:grpSpPr>
          <p:sp>
            <p:nvSpPr>
              <p:cNvPr id="146" name="Rectangle 17"/>
              <p:cNvSpPr/>
              <p:nvPr/>
            </p:nvSpPr>
            <p:spPr>
              <a:xfrm>
                <a:off x="324000" y="3193560"/>
                <a:ext cx="2994120" cy="459720"/>
              </a:xfrm>
              <a:prstGeom prst="rect">
                <a:avLst/>
              </a:prstGeom>
              <a:solidFill>
                <a:srgbClr val="3399ff"/>
              </a:solidFill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正比例函数一般形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8"/>
              <p:cNvSpPr/>
              <p:nvPr/>
            </p:nvSpPr>
            <p:spPr>
              <a:xfrm>
                <a:off x="3341160" y="3426840"/>
                <a:ext cx="513000" cy="0"/>
              </a:xfrm>
              <a:prstGeom prst="line">
                <a:avLst/>
              </a:prstGeom>
              <a:ln cap="sq"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19"/>
            <p:cNvSpPr/>
            <p:nvPr/>
          </p:nvSpPr>
          <p:spPr>
            <a:xfrm>
              <a:off x="495360" y="1963800"/>
              <a:ext cx="8383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20"/>
          <p:cNvSpPr/>
          <p:nvPr/>
        </p:nvSpPr>
        <p:spPr>
          <a:xfrm>
            <a:off x="-468360" y="4221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179280" y="3925800"/>
            <a:ext cx="392436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: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结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次数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31"/>
          <p:cNvSpPr/>
          <p:nvPr/>
        </p:nvSpPr>
        <p:spPr>
          <a:xfrm>
            <a:off x="285840" y="642960"/>
            <a:ext cx="1312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914400" y="12070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下列函数解析式是否是正比例函数？如果是，指出其比例系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2" descr=""/>
          <p:cNvPicPr/>
          <p:nvPr/>
        </p:nvPicPr>
        <p:blipFill>
          <a:blip r:embed="rId1"/>
          <a:stretch/>
        </p:blipFill>
        <p:spPr>
          <a:xfrm>
            <a:off x="4894200" y="2465280"/>
            <a:ext cx="2576520" cy="49068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3" descr=""/>
          <p:cNvPicPr/>
          <p:nvPr/>
        </p:nvPicPr>
        <p:blipFill>
          <a:blip r:embed="rId2"/>
          <a:stretch/>
        </p:blipFill>
        <p:spPr>
          <a:xfrm>
            <a:off x="1487520" y="2984400"/>
            <a:ext cx="1496880" cy="99720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4" descr=""/>
          <p:cNvPicPr/>
          <p:nvPr/>
        </p:nvPicPr>
        <p:blipFill>
          <a:blip r:embed="rId3"/>
          <a:stretch/>
        </p:blipFill>
        <p:spPr>
          <a:xfrm>
            <a:off x="4894200" y="4052880"/>
            <a:ext cx="1744560" cy="566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4"/>
          <a:stretch/>
        </p:blipFill>
        <p:spPr>
          <a:xfrm>
            <a:off x="1521000" y="2523960"/>
            <a:ext cx="1535040" cy="4604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5"/>
          <a:stretch/>
        </p:blipFill>
        <p:spPr>
          <a:xfrm>
            <a:off x="4851360" y="2968560"/>
            <a:ext cx="1641600" cy="99684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7" descr=""/>
          <p:cNvPicPr/>
          <p:nvPr/>
        </p:nvPicPr>
        <p:blipFill>
          <a:blip r:embed="rId6"/>
          <a:stretch/>
        </p:blipFill>
        <p:spPr>
          <a:xfrm>
            <a:off x="1468440" y="4044960"/>
            <a:ext cx="1620720" cy="471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3"/>
          <p:cNvSpPr/>
          <p:nvPr/>
        </p:nvSpPr>
        <p:spPr>
          <a:xfrm>
            <a:off x="3352680" y="2411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6831000" y="31082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3"/>
          <p:cNvSpPr/>
          <p:nvPr/>
        </p:nvSpPr>
        <p:spPr>
          <a:xfrm>
            <a:off x="3281400" y="39099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7427880" y="2319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0"/>
          <p:cNvGrpSpPr/>
          <p:nvPr/>
        </p:nvGrpSpPr>
        <p:grpSpPr>
          <a:xfrm>
            <a:off x="3314880" y="3060720"/>
            <a:ext cx="1121760" cy="807840"/>
            <a:chOff x="3314880" y="3060720"/>
            <a:chExt cx="1121760" cy="807840"/>
          </a:xfrm>
        </p:grpSpPr>
        <p:sp>
          <p:nvSpPr>
            <p:cNvPr id="165" name="TextBox 16"/>
            <p:cNvSpPr/>
            <p:nvPr/>
          </p:nvSpPr>
          <p:spPr>
            <a:xfrm>
              <a:off x="3314880" y="31291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对象 5" descr=""/>
            <p:cNvPicPr/>
            <p:nvPr/>
          </p:nvPicPr>
          <p:blipFill>
            <a:blip r:embed="rId7"/>
            <a:stretch/>
          </p:blipFill>
          <p:spPr>
            <a:xfrm>
              <a:off x="3916080" y="3060720"/>
              <a:ext cx="520560" cy="80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组合 9"/>
          <p:cNvGrpSpPr/>
          <p:nvPr/>
        </p:nvGrpSpPr>
        <p:grpSpPr>
          <a:xfrm>
            <a:off x="6961320" y="3940200"/>
            <a:ext cx="1239480" cy="642600"/>
            <a:chOff x="6961320" y="3940200"/>
            <a:chExt cx="1239480" cy="642600"/>
          </a:xfrm>
        </p:grpSpPr>
        <p:sp>
          <p:nvSpPr>
            <p:cNvPr id="168" name="TextBox 14"/>
            <p:cNvSpPr/>
            <p:nvPr/>
          </p:nvSpPr>
          <p:spPr>
            <a:xfrm>
              <a:off x="6961320" y="3940200"/>
              <a:ext cx="99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对象 7" descr=""/>
            <p:cNvPicPr/>
            <p:nvPr/>
          </p:nvPicPr>
          <p:blipFill>
            <a:blip r:embed="rId8"/>
            <a:stretch/>
          </p:blipFill>
          <p:spPr>
            <a:xfrm>
              <a:off x="7550640" y="4077360"/>
              <a:ext cx="650160" cy="46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31"/>
          <p:cNvSpPr/>
          <p:nvPr/>
        </p:nvSpPr>
        <p:spPr>
          <a:xfrm>
            <a:off x="573120" y="642960"/>
            <a:ext cx="1028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555920" y="151920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函数中哪些是正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343400" y="227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05000" y="2278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81240" y="30258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340160" y="302580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1281240" y="3849840"/>
            <a:ext cx="2842920" cy="489240"/>
            <a:chOff x="1281240" y="3849840"/>
            <a:chExt cx="2842920" cy="489240"/>
          </a:xfrm>
        </p:grpSpPr>
        <p:sp>
          <p:nvSpPr>
            <p:cNvPr id="177" name="Rectangle 11"/>
            <p:cNvSpPr/>
            <p:nvPr/>
          </p:nvSpPr>
          <p:spPr>
            <a:xfrm>
              <a:off x="1281240" y="387936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对象 4" descr=""/>
            <p:cNvPicPr/>
            <p:nvPr/>
          </p:nvPicPr>
          <p:blipFill>
            <a:blip r:embed="rId1"/>
            <a:stretch/>
          </p:blipFill>
          <p:spPr>
            <a:xfrm>
              <a:off x="2598480" y="3849840"/>
              <a:ext cx="104976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文本框 6"/>
          <p:cNvSpPr/>
          <p:nvPr/>
        </p:nvSpPr>
        <p:spPr>
          <a:xfrm>
            <a:off x="3043080" y="2206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"/>
          <p:cNvSpPr/>
          <p:nvPr/>
        </p:nvSpPr>
        <p:spPr>
          <a:xfrm>
            <a:off x="6278400" y="2908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"/>
          <p:cNvSpPr/>
          <p:nvPr/>
        </p:nvSpPr>
        <p:spPr>
          <a:xfrm>
            <a:off x="4004280" y="3743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340160" y="38941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4:48Z</dcterms:created>
  <dc:creator> </dc:creator>
  <dc:description> </dc:description>
  <dc:language>en-US</dc:language>
  <cp:lastModifiedBy>Administrator</cp:lastModifiedBy>
  <dcterms:modified xsi:type="dcterms:W3CDTF">2018-12-29T02:45:1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